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6AF4-371E-4D63-975B-6B0A6ECF071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B358-2FDA-446E-A9F3-4AEBC802E00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F709-0DC0-408B-940B-DF10061CBA3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3C65-5058-49F8-9660-4110127A9A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20AE-1C28-4831-8886-033D54EBAA5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A460-2D00-4CBF-8439-11C38DACE72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D0A7-D59A-4061-8178-C5200CB6F87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B950-11A8-41AF-9F45-25D862E773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C87D-A879-482E-BE5E-EC121CBF9FA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7758-DD84-4322-B085-6094019EBA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8D3E-FF2E-4D69-BEAD-4E011724B03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658A-15AF-4EDE-A83B-00121E2716D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F973-623B-4218-93EC-7AC7621A78B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5256-A354-47D5-89FF-D2899E00240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F4D6-3AB6-4B4A-AECB-23E677F8A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A338-F112-480F-90A3-E4655FDC6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2C98-2586-4346-8F31-ECF008C5A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B288-FF70-471B-ADD2-44695428B8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82F4-2E65-4A39-96C7-0A5C83CF2C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3F86-8988-4E3D-B54A-F344A044B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0AA5-67B8-4948-970A-4D505D80A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51FD-3222-4208-80E7-650F8F8C1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308E-A985-45D0-9FEB-BBCF2EDC1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72DB-EBD2-4F62-A9ED-0D437E99F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D476-1AC5-4293-BEF1-DD7EAD23C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65AE-7C96-4E47-A265-18AC61A97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F6DA-7A0F-4C07-A915-61B2DA7F048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빈 파일 업로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4-08T08:53:09Z</dcterms:modified>
  <cp:revision>98</cp:revision>
  <dc:subject/>
  <dc:title>2006년도 식품의약품안전청 공개발표 선정평가    ℹ 사 업 명 :   ℹ 과 제 명 :   ℹ 연 구 비 :   ℹ 신청기관 :   ℹ 주관연구책임자 :</dc:title>
</cp:coreProperties>
</file>